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7BA-C4B2-46E3-BD28-1E3B241C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59D-2A38-4251-8F64-B6E97A0B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5C8-D540-4B4D-A451-B7FF091D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B60-71C3-417A-874E-7851EAE5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4563-0376-4CE0-B38E-A6258380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872-AD8A-4053-A3B5-9719C095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ED24-0117-47E0-87CC-F226AADB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4E93-973D-45D5-9E78-EDA654BF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0BBF-B1A5-4A72-B999-7B97E659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5D95-A5DE-4B1F-B416-23A6B233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6E63-3C7B-4CA8-8809-23F26BFD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C11-690F-4913-A715-E7F9A534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6BEE-35BB-4F52-9F29-AF431169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6352-3997-4B6A-A213-1AC768C7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C739-571E-44F1-88E2-C7B59628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6C05-5E80-4DEC-9F13-5EA2D873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CC04-6136-4D4A-802B-8C84A56C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5B0-15B8-4857-B2AD-A958E39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262-06E8-4FA6-BC40-FB9087D5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186-7902-4708-A172-39083BF0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AE0-56A7-4BBB-AF59-CB78EA02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E50-A7BB-4749-9241-F2D48B87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A25-3542-4875-BC82-A4583635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056-38E9-40BA-82B6-B5B8CBC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1CFB-835F-4911-929C-B41FCBF710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9B34-A75C-4163-B7DE-66B3FABB55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1401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ahoma"/>
              </a:rPr>
              <a:t>Marco Conceptual </a:t>
            </a:r>
            <a:br>
              <a:rPr sz="3600"/>
            </a:br>
            <a:r>
              <a:rPr b="0" lang="es-ES" sz="3600" spc="-1" strike="noStrike">
                <a:solidFill>
                  <a:srgbClr val="ffffcc"/>
                </a:solidFill>
                <a:latin typeface="Tahoma"/>
              </a:rPr>
              <a:t>Caso para estudio/ Case Stud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arrollo de Marcos Conceptua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Como diseñar Marcos Conceptual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finir los objetivos del progr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finir actividades para alcanzar esos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finir resultad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finir factores proximales y dístales que influyan los resultados prin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enere una lluvia de ideas acerca de la relación entre los factore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enere una lluvia de ideas acerca de las direcciones de los vínculo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Dividiéndose en pares desarrollen un Marco Conceptual para un aspecto de un programa de control de la TB</a:t>
            </a:r>
            <a:r>
              <a:rPr b="0" i="1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efina los produ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efina los factores proximal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efina los factores dístales (factores sociales, culturales, ambientales, de comportamiento, políticos)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Genere un borrador de un marco conceptual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20:38:35Z</dcterms:created>
  <dc:creator>Kate Macintyre</dc:creator>
  <dc:description/>
  <dc:language>en-US</dc:language>
  <cp:lastModifiedBy>Jessica Posner</cp:lastModifiedBy>
  <dcterms:modified xsi:type="dcterms:W3CDTF">2005-03-07T20:26:43Z</dcterms:modified>
  <cp:revision>10</cp:revision>
  <dc:subject/>
  <dc:title>Conceptual Frameworks - 2</dc:title>
</cp:coreProperties>
</file>